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0437-0356-4E33-93B7-41EA7056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47BF-BDA3-46B0-9AA1-91273BB4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620-A80B-455C-9B94-777EC9B9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223-2DE3-4EE7-803C-4D06AC82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A5E-C1ED-4550-9742-387026C8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01F-14A9-47D2-9AAD-1C1B1E01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F2FB-88F1-4B09-ACF2-D8F83B31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DAF0-0D22-4B98-A6AD-132A8FF6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97BB-305F-4142-89C7-899D8312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E8ED-3504-4BBF-83CE-8BC3632F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6CB-EBF7-4DE4-BFFF-1D4AE2E5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09E9-421F-442E-B88B-C1F31370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DE08-EE34-4F7C-852F-5078C677E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006560" y="1676160"/>
            <a:ext cx="7146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hear God singing to m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repeating)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838080" y="837720"/>
            <a:ext cx="7315200" cy="8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lbertus"/>
              </a:rPr>
              <a:t>I Hear God Si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61760" y="83808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hear God singing and rejo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I love my Father’s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hear God singing and he’s s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ryone should sing a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ghteous singing scares the d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let’s shout our anthems 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oldier choir in Holy conce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ices lifted faces b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1760" y="83808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hor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hear God singing to m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her us and start a mov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atter us we scatter s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nting Christ in every 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our great crusade succ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ticize us; we grow str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ill us and for sure we 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our battle isn’t earth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our souls will never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61760" y="83808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hor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hear God singing to m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hkeeuh moongoo akeeyeembah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omen ech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r God sing for Jesus’ sak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4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Chorus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22:18:36Z</dcterms:created>
  <dc:creator>Peter Rivezzo</dc:creator>
  <dc:description/>
  <dc:language>en-US</dc:language>
  <cp:lastModifiedBy>Peter Rivezzo</cp:lastModifiedBy>
  <dcterms:modified xsi:type="dcterms:W3CDTF">2010-02-13T22:18:36Z</dcterms:modified>
  <cp:revision>1</cp:revision>
  <dc:subject/>
  <dc:title>I Hear God Singing</dc:title>
</cp:coreProperties>
</file>